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975-B783-4B0B-97BD-596E7B27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65F-CD58-4755-A60D-05782CFD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F3A-6E4F-48E6-A03C-B5C92F10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441-96E8-40C3-A2B7-55277DF0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5E09-000B-48CB-8C39-2D159C43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0980-1747-42EE-B8CB-CDEFF52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A4F9-4F2B-475F-BE4D-0BEEAD78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3EEE-96FF-430F-8683-F1BDA73E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D7C9-B640-48BC-8B52-FBC5EFF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DD9C-42BB-4C35-BA59-57B8C32E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3FB6-EAC7-4C00-9933-DFA87DA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04A-A2B1-4447-B4AF-928DA9D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FDAF-0583-4168-9631-2C8C3CF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A360-6F32-48E2-B0DD-25AD583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8752-03A6-450F-A3F7-E9C4DD11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9A2-032A-4B33-A779-9893D79F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EFAA-10D1-4202-944B-F48A3A1B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B21-BD41-49CB-8D93-D040005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564-9D4F-4CBB-A2AE-80A07756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B6A-990D-41B4-AEE7-70FB3A98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DD6-E95B-484B-AB19-0DA78E62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605-1B12-44E5-9E66-956A686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4CD-3B24-4386-A6C0-7602FD4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DA1-FB5F-4685-8550-9826882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6C2-DF8C-4916-8918-B985CFA16EF8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1B3-823F-41AA-A9B7-79BF97C7E3F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DBBF-6150-4E50-8A29-9BF38C9B884D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29F-9A5C-48F0-BF70-6F866C17F64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6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32788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700-177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igion less fervent than it used to be in colon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beral ideas challenged relig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nathan Edwards- pastor who ignited G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lieved in need for complete dependence on God’s grac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nners in the Hands of an Angry God”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orge Whitefield- eloquent preacher, emotional appeal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6" descr="j edwards.bmp"/>
          <p:cNvPicPr/>
          <p:nvPr/>
        </p:nvPicPr>
        <p:blipFill>
          <a:blip r:embed="rId3"/>
          <a:stretch/>
        </p:blipFill>
        <p:spPr>
          <a:xfrm>
            <a:off x="7291440" y="4952880"/>
            <a:ext cx="1852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59840" cy="115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LD LIGH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LIGH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thodox clergymen who did not want to dilute their church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keptical of the emotionalism and theatrical antics of revival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veling preachers, with emotional sermons appealing to human behavior and God’s fu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vitalized American relig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36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300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imarily centered in New England tow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leges focused on training of minis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irst non-denominational college: University of Pennsylva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Content Placeholder 9" descr="msu-shrine94.jpg"/>
          <p:cNvPicPr/>
          <p:nvPr/>
        </p:nvPicPr>
        <p:blipFill>
          <a:blip r:embed="rId3"/>
          <a:stretch/>
        </p:blipFill>
        <p:spPr>
          <a:xfrm>
            <a:off x="3581280" y="685800"/>
            <a:ext cx="510552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3657600" y="5410080"/>
            <a:ext cx="49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niversity of Pennsylv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36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hn Peter Zenger who had written against a royal colonial govern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fended by lawyer Alexander Hamilt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tablished freedom of pres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ue statements are not lib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Content Placeholder 6" descr="51G9N3ZQ5RL.jpg"/>
          <p:cNvPicPr/>
          <p:nvPr/>
        </p:nvPicPr>
        <p:blipFill>
          <a:blip r:embed="rId3"/>
          <a:srcRect l="-4032" t="0" r="-4032" b="0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Y 1775 GREAT BRITAIN RULED 32 NORTH AMERICAN COLONIE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RRITORIAL EXPANSION 177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1775 colonial population was dramatically increas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5 million people in 13 colon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erage age was 1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ural society…90% were farm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Content Placeholder 8" descr="us_terr_1775.jpg"/>
          <p:cNvPicPr/>
          <p:nvPr/>
        </p:nvPicPr>
        <p:blipFill>
          <a:blip r:embed="rId3"/>
          <a:srcRect l="0" t="-17764" r="0" b="-17764"/>
          <a:stretch/>
        </p:blipFill>
        <p:spPr>
          <a:xfrm>
            <a:off x="4645080" y="2362320"/>
            <a:ext cx="4041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THNIC DIVERS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ULAT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stly English peop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% German (Lutheran &amp; Pennsylvania Dutch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% Scots-Irish; squatt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cots-Irish became revolutionari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Paxton Boys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d a march on Philadelphia to protest “fair” treatment of Indi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ulators led a march in North Carolina to protest certain North Carolina “geographic power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6" descr="alammem.jpg"/>
          <p:cNvPicPr/>
          <p:nvPr/>
        </p:nvPicPr>
        <p:blipFill>
          <a:blip r:embed="rId3"/>
          <a:stretch/>
        </p:blipFill>
        <p:spPr>
          <a:xfrm>
            <a:off x="5029200" y="4375080"/>
            <a:ext cx="4114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2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frican Slaves and Native Americans also part of new “American”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any mixed peopl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ngled &amp; intermarriage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merica was a land of opportun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he south: black &amp; white racial composi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he north: least ethnic divers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iddle: biggest divers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Content Placeholder 9" descr="benfranklin1.jpg"/>
          <p:cNvPicPr/>
          <p:nvPr/>
        </p:nvPicPr>
        <p:blipFill>
          <a:blip r:embed="rId3"/>
          <a:stretch/>
        </p:blipFill>
        <p:spPr>
          <a:xfrm>
            <a:off x="3962520" y="609480"/>
            <a:ext cx="4267080" cy="4724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4038480" y="5791320"/>
            <a:ext cx="48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Ultimate Rags to Riches 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25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ch plantation owners: many sla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oman farmers:  owned farms w/ some sla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ndless whites: tenant farmers (former indentured servant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Content Placeholder 6" descr=""/>
          <p:cNvPicPr/>
          <p:nvPr/>
        </p:nvPicPr>
        <p:blipFill>
          <a:blip r:embed="rId3"/>
          <a:stretch/>
        </p:blipFill>
        <p:spPr>
          <a:xfrm>
            <a:off x="3554280" y="255600"/>
            <a:ext cx="51516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LONIAL PHYSICI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ergy were honored in colonial d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hysicians: not highly trained but still had great amount of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eeding was the most famous remed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mallpox was rampant (inoculations began in 1721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9" descr="cotton mather.jpg"/>
          <p:cNvPicPr/>
          <p:nvPr/>
        </p:nvPicPr>
        <p:blipFill>
          <a:blip r:embed="rId3"/>
          <a:stretch/>
        </p:blipFill>
        <p:spPr>
          <a:xfrm>
            <a:off x="38088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mallpox-victim_450.jpg"/>
          <p:cNvPicPr/>
          <p:nvPr/>
        </p:nvPicPr>
        <p:blipFill>
          <a:blip r:embed="rId4"/>
          <a:stretch/>
        </p:blipFill>
        <p:spPr>
          <a:xfrm>
            <a:off x="4495680" y="5105520"/>
            <a:ext cx="4286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e: the biggest 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shing and wha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riangular T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anufacturing &amp; secondary industr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killed craftsm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umbering for Britain’s navy was a big indust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Content Placeholder 4" descr="lumber1.jpg"/>
          <p:cNvPicPr/>
          <p:nvPr/>
        </p:nvPicPr>
        <p:blipFill>
          <a:blip r:embed="rId3"/>
          <a:srcRect l="0" t="-29213" r="0" b="-29213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404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ADS WERE POOR AND CONNECTED ONLY C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VEL BY CANALS AND RIVER BOATS ALSO OCCUR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FFICIENT MAIL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ARLY TAVER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Content Placeholder 4" descr="tavern 1.jpg"/>
          <p:cNvPicPr/>
          <p:nvPr/>
        </p:nvPicPr>
        <p:blipFill>
          <a:blip r:embed="rId3"/>
          <a:srcRect l="0" t="-12095" r="0" b="-12095"/>
          <a:stretch/>
        </p:blipFill>
        <p:spPr>
          <a:xfrm>
            <a:off x="2819520" y="4572000"/>
            <a:ext cx="275436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ong with town meetings, “the cradle of democracy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social classes mingled 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nglican Church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Church of England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ith less fierce &amp; more worldl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illiam and Mary established to train Anglican minis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ongregational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her established church; grew out of Puritan churc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5:41:06Z</dcterms:created>
  <dc:creator>brissettematthew</dc:creator>
  <dc:description/>
  <dc:language>en-US</dc:language>
  <cp:lastModifiedBy>emily.johnson</cp:lastModifiedBy>
  <dcterms:modified xsi:type="dcterms:W3CDTF">2012-09-17T15:06:45Z</dcterms:modified>
  <cp:revision>28</cp:revision>
  <dc:subject/>
  <dc:title>Conquest by Cradle</dc:title>
</cp:coreProperties>
</file>